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79E6-F9B9-4A3A-B79A-3709C5072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27EB-6E4D-42A7-98FE-D0A10543E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DB50-719B-4CC6-9E12-9E190E932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ACE3-4A5D-4548-B76F-DDC731CA7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1FC2-BFF1-4963-9CDA-8F8A8B99D9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49C3-B219-448E-A3A4-A3736F5674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867C-15F4-474C-AFA4-B7E86EC5C2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0232-499F-4AAD-AB15-BB9EAF62B8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DE10-4A53-40DA-8143-1EE2FA5216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5DE8-9B29-4F0E-B5E2-E9132FF1CA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310E-2E20-40E6-B22F-F808189FAD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BEA9-CC62-4894-B225-4E1DF3F40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7073-1256-4116-931D-D6B317E055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19860-0550-4BDA-B223-9B85016545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485D-1D94-4631-A133-302F713B87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72A2-A50C-4295-8D6A-5AE6F88166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4465-3DB1-4732-B973-7BDD45BA5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36F7-536B-4600-A413-639DD2A45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2440-071C-4721-A8ED-B8894B055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31D9-D163-4F52-9BC9-F854D4626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5794-48F2-43EA-9FC6-75C3500AC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8EA7-3FB6-4961-9193-F49829617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BBEC-515A-4D24-A691-B6A03DF35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57F4-0DCF-4947-8B77-64AD3917F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 fontScale="72000"/>
          </a:bodyPr>
          <a:p>
            <a:pPr marL="2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27800" y="6248160"/>
            <a:ext cx="354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F615-B482-4F08-ADD2-6B5DFC9977CA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27800" y="6248160"/>
            <a:ext cx="354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50F1-D2DC-462E-AD06-A92635EF4FD3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Signal words and writing prompt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acilitating higher level thinking skill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Need both reader and author input when: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Analyz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terpret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generaliz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Writing prompt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ading passage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horter in length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Higher in rigor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82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Lend themselves to analysis, evaluation, interpretation, etc.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arget passage type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c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tory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Non-Fic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Biography (auto) OR practical/how-to/advertise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Essay/editoria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Promp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lated to a PA reading standard/anchor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orporate language of the standard/ancho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Ask for supporting details/examples from pass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Writing prompt respons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Need to respond directly in first sentence or two 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ncorporate key words/phrases from promp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ite evidence from text to suppor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hould support with more than one essential detai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consider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tudent response should be brief and to the point: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5 or 6 sentences max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PSSA rubric for open ended reading item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luded in handou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amiliarize students with the langu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let students evaluate other responses using the rubric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Signal word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- break apart, examine methodically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Reader’s voice as well as author’s 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ite evidenc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Mention in support (of a thesis statement); refer to as an exampl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ecifics using quotes or paraphrasing essential detail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ompare/contras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When asked to evaluate two related passage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Make a judgment after weighing specific evidence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Judgment is reader’s evaluation of what author write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ecific evidence (in text) should correlate/support judg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Generaliz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Draw conclusions based upon presented informa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orrelation/support with essential specific details (in text)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Interpre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Provide meaning:  make it clea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aders should use own langu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Sentence starter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Using language of PSSA Anchors, PA Reading Standard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interpret and/or analyze the effect of . .”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lude the impact/effect upon the reade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acher FCASD</dc:creator>
  <dc:description/>
  <dc:language>en-US</dc:language>
  <cp:lastModifiedBy/>
  <cp:revision>0</cp:revision>
  <dc:subject/>
  <dc:title>Signal words and writing prompts</dc:title>
</cp:coreProperties>
</file>